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03AF-D7A2-4AD5-8C66-0AE165370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435B-563D-46FB-B2FB-11490B21C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6-</a:t>
            </a:r>
            <a:fld id="{CB1671A8-CDCE-4B07-B498-D82AF79D0085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ster Budget and Responsibility Accoun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ivity-based budgeting focuses on the cost of activities necessary to produce and sell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0">
              <a:spcBef>
                <a:spcPts val="150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Key Ste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budgeted costs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demand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of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cribe budget in terms of costs of performing these activ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5 - 2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ing and Responsibility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centre is a group within the organization with a manager accountable for results achieved by the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accounting is a system that measures plans (by budgets) and actions (by actual results) of each responsibility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962520"/>
            <a:ext cx="77724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Type of Cen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ager Responsible F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, revenues &amp;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ibility and Controlla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ility is the degree of influence that a specific manager has over costs, revenues or other items in ques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le cost is any cost that is primarily subject to the influence of a manager for a given time spa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ablishing controllability is sometimes difficul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for some costs are shared among more than one manag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times what happens now is primarily due to the decisions taken by other managers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on using “controllability” for information and knowledge rather than contr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h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8800" y="1218960"/>
            <a:ext cx="777240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sh budget is a schedule of expected cash receipts and disburs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dicts the effects on cash position at the given level of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lans for the borrowing and repayment of lo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11 - 2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3581280"/>
            <a:ext cx="8153280" cy="259092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eginn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receip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91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avail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4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disbursements (including minimum balance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,140,8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xcess (deficienc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197,18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ng: Borrow (repa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8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d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5,8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is a quantitative expression for a set time period of a proposed future plan of action by manag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ster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-ordinates all the financial projections in the organization’s individual budgets in a single document for a set period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s operating estimates, a cash budget, and pro forma financial statements (balance sheet, income statement, and statement of cash flow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1 - 19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dministered intelligently, budge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planning including the implementation of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k the budget with strategic analysis for the organization including overall objectives, trends, risks, alternative strateg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performance criteri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ring actual performance against a budget is better than comparing  this year’s achievements to last year’s resul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- 1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communication and coordination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making everyone aware of plans in other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ating communic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management support and administr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p management support is necessary to achieve particip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anging conditions call for changes in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 - 19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ile the normal time coverage of a budget is one year, other time periods are useful in certain c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olling budget:  add a new month or quarter at the end of the current month or quart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budget: budgeted income statement and supporting schedu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budget: capital budget, cash budget, balance sheet, and statement of cash flow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4 -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Retai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1905120"/>
            <a:ext cx="14479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2860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236232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2670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38098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548640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670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3244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4343400"/>
            <a:ext cx="0" cy="6094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05740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057400" y="624852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33412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1447920"/>
            <a:ext cx="15922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297180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048120"/>
            <a:ext cx="236232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342900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2640" y="1447920"/>
            <a:ext cx="171612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4952880"/>
            <a:ext cx="16002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Manufactur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16765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133720"/>
            <a:ext cx="0" cy="13716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648320"/>
            <a:ext cx="0" cy="3808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3434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09680" y="56386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670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3244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44956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57400" y="640080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33412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15922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12193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50532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505320"/>
            <a:ext cx="23623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58128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362320"/>
            <a:ext cx="1218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5105520"/>
            <a:ext cx="16002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ipation in Budge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cipation at all levels is necessary for the budget to be a meaningful exer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 firms set “stretch” or “challenge” targets for revenues to motivate employees to put in extra effort and achieve higher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trong pressure exists to achieve budget targets, employees may underestimate budgeted revenues and overestimate budgeted expen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dding” th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rporating budgetary sla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izen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is a Japanese term for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budgeting is an approach to budgeting that explicitly incorporates continuous improvement during the budget peri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 :  Budgeted labour hours for Regular and Heavy-Duty Units produced during the yea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Regular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Heavy-Dut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anuary-Marc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-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9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8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-Sept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7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ctober-Dec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7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5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2:13:58Z</dcterms:created>
  <dc:creator>User</dc:creator>
  <dc:description/>
  <dc:language>en-US</dc:language>
  <cp:lastModifiedBy>John Moore</cp:lastModifiedBy>
  <cp:lastPrinted>1999-06-03T13:12:19Z</cp:lastPrinted>
  <dcterms:modified xsi:type="dcterms:W3CDTF">2003-03-22T13:11:59Z</dcterms:modified>
  <cp:revision>8</cp:revision>
  <dc:subject/>
  <dc:title>Budgets</dc:title>
</cp:coreProperties>
</file>